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1643-CF07-427E-8D3C-6A6E5F0D9D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B44E-D5FC-42F5-8706-D472327E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F49E-F776-48F0-A81E-66D5216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5F0A-FE78-41BB-85C3-75C45E1FDB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140A-632F-4A80-AABF-6AA3E3EF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A372-C3E8-45A6-A5B7-04EFFE70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43AE-16B5-4A6F-A255-932142E8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3289-ED20-4335-8836-6C09019A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D6BB-9859-47C4-A54E-445016B7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FEC05-FCCD-4EAB-8711-90D6523C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3CD7-07D5-40B4-B9E5-64310074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11BE-F5CE-43BB-8567-4B665992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EC04AC-7CBA-43DE-A63A-AB9AB7BCFEE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hyperlink" Target="http://www.pskovfishing.ru/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images.yandex.ru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vasilich-k.narod.ru/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33240" y="731880"/>
            <a:ext cx="7785360" cy="160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328760" y="2548080"/>
            <a:ext cx="6566040" cy="31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361280" y="-11572920"/>
            <a:ext cx="10587240" cy="793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714920" y="3929040"/>
            <a:ext cx="4267080" cy="2571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85840" y="4643280"/>
            <a:ext cx="209556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42920" y="285840"/>
            <a:ext cx="3240000" cy="2857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357720" y="78588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11.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 случае провала льда под ногам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адо действовать быстро и решительн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широко расставив  руки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, удержаться на поверхности льда ,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без резких движений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тараться выползти на твёрдый лёд, а затем , лёжа на спине или на груди 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одвинуться в сторону , откуда пришел ,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овременно призывая на помощ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85920" y="571680"/>
            <a:ext cx="72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Зимние спасательны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2274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1.Спасательная доска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ина доски – 5-8 метров, ширина - 120 см. На одном конце крепится петля, на другом - веревка длиной от 30 до 40 м. Спасатели на берегу привязывают к неподвижному предмету конец веревки, потом подползают по льду к пострадавшему и подают ему конец доски с петлей, помогая выбраться из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7120" y="2643120"/>
            <a:ext cx="1428840" cy="115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143160" y="4929120"/>
            <a:ext cx="250056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42960" y="3643200"/>
            <a:ext cx="55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2.Спасательный шест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ина – 5-8 метров. К концу шеста крепится пеньковая капроновая веревка длиной 40 м. Спасатель привязывает на берегу веревку, приближается на безопасное для себя расстояние, подает пострадавшему шест, помогает выбраться из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071960" y="928800"/>
            <a:ext cx="3357720" cy="2685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85920" y="0"/>
            <a:ext cx="314316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00120" y="350028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3.Спасательная веревка.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лина – 25-30 м с большими, длиной до 70 см, петлями на обоих концах. Спасатель надевает на левую руку петлю, а правой берет другую петлю и, сделав два-три круговых размаха, бросает ее тонущему. Поймав петлю, тонущий надевает ее через голову под руку, после чего спасатель подтягивает его к бере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14920" y="57168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38577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42960" y="928800"/>
            <a:ext cx="3498840" cy="240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83000" y="307188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http://www.pskovfishing.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83280" y="564372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http://www.pskovfishing.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35560" y="579600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http://www.pskovfishing.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43160" y="292896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4.Спасательная лестниц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. Длина – 3-6 м, ширина – 50-70 см. Изготавливается из ели, сосны или дюралюминиевых трубок с запаянными концами. Используется спасателями так же, как и спасательная доска. Во всех случаях желательно, чтобы спасатель предварительно подстраховал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57160" y="0"/>
            <a:ext cx="285768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0" y="255096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5.Подручные средства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В экстренных ситуациях для оказания помощи утопающему могут быть использованы подручные средства: бревна, шесты, лыжи, щиты, веревки, брючные ремни, личная одежда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3438720" cy="2114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00760" y="412596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72040" y="142920"/>
            <a:ext cx="4071960" cy="6514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72040" y="6286680"/>
            <a:ext cx="257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http://gims27.narod.ru/foto_gal/MCHS-1.jp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5840" y="214200"/>
            <a:ext cx="4572000" cy="916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амятка для обучающихся и их родите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о оказанию помощи пострадавшим, провалившимся под л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0717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Полезные советы: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Никогда не ступайт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 лед, если вы не убеждены, что он достаточно креп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мните, что лед крепче у берег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; его толщина уменьшается на большой глубине по мере удаления от берега, а также в тех местах, где есть растительность или быстрое теч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репость льда зависит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акже от температуры воздуха. Днем он не такой прочный, как утром и вече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ередвигаясь по льду,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ходите темные пятна: здесь лед очень хруп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Во время движения по льду следует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ходить участки, покрытые толстым слоем снега, места, где быстрое течение, родники, выступают на поверхность кусты, трава, впадают в водоем ручьи и вливаются теплые сточные воды промышленных предприятий, ведется заготовка льда и т.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Calibri"/>
              </a:rPr>
              <a:t>Падение в полынью: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жет случиться так, что в этот момент поблизости никого не окажется и вам придется выбираться самостояте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аши действ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Не паникуйт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Дышите как можно глубже и медленн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Делайте ногами непрерывные движения так, словно вы крутите педали велосипе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 Не пытайтесь сразу выбраться на лед. Вокруг полыньи лед очень хрупкий и не выдержит тяжести вашего те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родвигайтесь в ту сторону, откуда пришли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ли до ближайшего берега, кроша на своем пути ледяную кромку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. Как только лед перестанет ломаться под вашими ударами,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ложите руки на лед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протянув их как можно дальше, и изо всех сил толкайтесь ногами, стараясь придать туловищу горизонтальное поло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. Не опирайтесь на лед всей тяжестью тела: он может снова провалиться, и вы с головой окунетесь в в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. 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Выбравшись на лед, распластайтесь на нем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ползите вперед, не пытаясь подняться на но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9. Ближе к берегу, где лед крепче, повернитесь на бок и перекатывайтесь в сторону бере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.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ыбравшись на берег, не останавливайтесь, чтобы не замерзнуть окончательно. Бегом добирайтесь до ближайшего теплого помещ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0" y="185904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1. Оценка обстановки и ее опасности для оказывающего помощ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2. Прекращение действия травмирующего фактора (извлечение пострадавшего из полыньи (проруби)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3. Оценка состояния пострадавш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4. Оказание медицинской помо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5. Доставка пострадавшего в лечебное учреж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3571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Первая помощь провалившемуся под лед включает следующие эта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4200" y="5000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286240" y="4714920"/>
            <a:ext cx="285768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57880" y="1714680"/>
            <a:ext cx="3786120" cy="3214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7640" y="285840"/>
            <a:ext cx="6564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1.Осенний лёд до наступ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устойчивых морозов обычно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очен.Ещё быстрей ледяной покров разрушается ве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его подтачивает снизу усиливающее т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Переправляться по льду в это врем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нельзя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ереходить по льду нужно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орудованным переправам, но если их н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о прежде, чем двигаться по льду, на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бедиться в его про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86280" y="171468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57200" y="1357200"/>
            <a:ext cx="3000600" cy="142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2960" y="428760"/>
            <a:ext cx="8358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Безопасный переход по льду возможен при толщине льда не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7с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прич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юди должны идти на расстояни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-6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метров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руг от друга. Такую же дистанцию надо соблюдать при встречном движ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.Если  собралась группа из 4-5 человек,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едвигаться можно по льду, толщ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торого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не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15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57720" y="4500720"/>
            <a:ext cx="2786040" cy="208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680" y="621504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http://images.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 rot="10800000">
            <a:off x="571680" y="399240"/>
            <a:ext cx="857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о всех случаях, прежде чем сойти с берега на лёд, необходимо внимательно осмотреться, наметить маршрут движения , выбирая безопасные места. Лучше всего идти по проложенной тропе.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асно выходить на лёд при оттеп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ледует спускаться на лёд в незнакомых местах, особенно с обрывов.  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71720" y="2143080"/>
            <a:ext cx="75009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4200" y="142920"/>
            <a:ext cx="4857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ри движении по льду следует быть осторожным, внимательно следить за поверхностью льда, обходить опасные и подозрительные места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 осторожным нужно быть в местах, где быстрое течение, вблизи выступающих на поверхность кустов, осоки, травы , где ручьи впадают в водоёмы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ят родники и вливаются тёплые сточные воды промышленных предприятий, где ведётся заготовка льда и т.п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86280" y="4214880"/>
            <a:ext cx="2786400" cy="208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4786200"/>
            <a:ext cx="4572000" cy="131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ее всего переходить по прозрачному с зеленоватым, голубоватым  оттенком льду толщиной не менее 7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72120" y="64296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2960" y="3643200"/>
            <a:ext cx="4572000" cy="916920"/>
          </a:xfrm>
          <a:prstGeom prst="rect">
            <a:avLst/>
          </a:prstGeom>
          <a:noFill/>
          <a:ln w="93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дует остерегаться площадок, покрытых толстым слоем снега - под снегом лёд всегда тоньше, чем на открытом мес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0160" y="714240"/>
            <a:ext cx="757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7.Проверять толщину льда ударом ног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атегорически запрещен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-Ударами можно проверять прочность льда лишь с помощ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шни или пал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Если после первого удара лёд пробивается и на нём появля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да, нужно немедленно остановиться и идти обратно по след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ервые шаги на обратном пути надо дел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е отрывая подошвы от льда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85880" y="3071880"/>
            <a:ext cx="3720960" cy="34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93800" y="6286680"/>
            <a:ext cx="14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http://vasilich-k.narod.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14200" y="1000080"/>
            <a:ext cx="11527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57680" y="3214800"/>
            <a:ext cx="60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8. Пользоваться на водоемах площадками для катания на коньках разрешается после тщательной проверки прочности льда, толщина которого должна быть не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менее 12 см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а при массовом катании -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 менее 25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414324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500880" y="4714920"/>
            <a:ext cx="1285920" cy="1722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5840" y="52149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пасно ходить и кататься на льду в ночное время и особенно в незнакомых места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7120" y="342900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9.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 переходе водоема по льду на лыжах рекомендуется пользоваться проложенной лыжней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а при ее отсутствии, прежде чем двигаться по целине,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следует отстегнуть крепление лыж и снять петли лыжных палок с кистей рук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юкзак или ранец необходимо взять на одно плеч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Расстояние между лыжниками должно быть 5-6 метров.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 время движения лыжник, идущий первым, ударами палок проверяет прочность льда и следит за его состоя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357200" y="285840"/>
            <a:ext cx="485784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2920" y="357120"/>
            <a:ext cx="3214800" cy="287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14680" y="2928960"/>
            <a:ext cx="157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http://images.yandex.ru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71920" y="714240"/>
            <a:ext cx="507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.Во время подледного лова рыбы нельзя пробивать много лунок на ограниченной площади и собираться большими групп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5840" y="42148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ому рыболову рекомендуется иметь спасательное средство в виде шнура длиной 12- 15 метров, на одном конце которого должен быть закреплен груз весом 400-500 граммов, а на другом - изготовлена пет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643720" y="2622600"/>
            <a:ext cx="2571480" cy="2735280"/>
          </a:xfrm>
          <a:prstGeom prst="rect">
            <a:avLst/>
          </a:prstGeom>
          <a:ln w="0">
            <a:noFill/>
          </a:ln>
        </p:spPr>
      </p:pic>
      <p:cxnSp>
        <p:nvCxnSpPr>
          <p:cNvPr id="72" name=""/>
          <p:cNvCxnSpPr/>
          <p:nvPr/>
        </p:nvCxnSpPr>
        <p:spPr>
          <a:xfrm flipV="1">
            <a:off x="4929120" y="3928320"/>
            <a:ext cx="121680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214800" y="2149560"/>
            <a:ext cx="2428920" cy="199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4:44:30Z</dcterms:created>
  <dc:creator>Попов А. С.</dc:creator>
  <dc:description/>
  <dc:language>en-US</dc:language>
  <cp:lastModifiedBy/>
  <dcterms:modified xsi:type="dcterms:W3CDTF">2021-11-14T13:32:30Z</dcterms:modified>
  <cp:revision>57</cp:revision>
  <dc:subject/>
  <dc:title>ПАМЯТКА</dc:title>
</cp:coreProperties>
</file>